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BD6-C92C-46BC-8BE5-EFCB6077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C31-95B5-4F4F-B8DC-ED882BCE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353C-98DD-49BD-B511-D7D71040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F53-237A-47B3-9435-FEFC1EC1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D6A9-A333-4576-8831-1470DFC5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2C42-8D9D-477D-AF9A-79798A57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B495-B0B8-4C48-BA6C-2AFC5096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87C8-5427-4D83-8C05-B1B85388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F913-16A9-43B4-ABEC-23136973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909E-8067-4E07-BD8B-E0AAEC30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179D-331C-4226-8C12-0F6504EA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246-44D9-4117-B500-C5F5D7F9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F8B0-F2E8-4479-A202-C5C086E7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80F6-E730-48E7-9759-F4FAF452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8BEB-2F38-48AD-A493-BAB08E47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DA75-83BE-4585-A5B1-0C66B9C5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F8FF-0702-4614-853A-C768C51D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6B8-9F89-47E7-80DE-F6EB6A22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4420-10AD-4FF8-A6A3-F49ED322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4FD-9FD1-4588-AA16-2FE062B9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C8F-5F04-4205-8C62-4075B624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B93-4E7A-48D3-B980-DD249BBD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628-9B5C-4B5A-B4CA-850D4DF1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F5E-9B74-48DE-B99A-E474C72C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60402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40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60402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4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60402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2E6B-0E80-4BA3-A23B-9741FFE79BD7}" type="slidenum">
              <a:rPr b="0" lang="en-US" sz="1400" spc="-1" strike="noStrike">
                <a:solidFill>
                  <a:srgbClr val="0604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85DD-343E-425E-B3D9-4C72D64F877E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orary%20Internet%20Files/Content.IE5/Cornell%20Notes/Cornell%20Notes%201%20p%20Overview" TargetMode="External"/><Relationship Id="rId2" Type="http://schemas.openxmlformats.org/officeDocument/2006/relationships/hyperlink" Target="file:///../Local%20Settings/Temporary%20Internet%20Files/Content.IE5/Cornell%20Notes/Cornell%20Notes%201%20p%20Overview" TargetMode="External"/><Relationship Id="rId3" Type="http://schemas.openxmlformats.org/officeDocument/2006/relationships/hyperlink" Target="file:///../Local%20Settings/Temporary%20Internet%20Files/Content.IE5/Cornell%20Notes/Cornell%20Notes%201%20p%20Overview" TargetMode="External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orary%20Internet%20Files/Content.IE5/Cornell%20Notes/Blank%20Tutor%20Cornell%20Notes" TargetMode="External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orary%20Internet%20Files/Content.IE5/Cornell%20Notes/Costa&apos;s%20Three%20Story%20Intell%20.DOC" TargetMode="External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orary%20Internet%20Files/Content.IE5/Cornell%20Notes/The%20Slant%20Method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y shoul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take n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2880" y="159984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21304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extile"/>
              </a:rPr>
              <a:t>To minimize your “rate of forgett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Dr. Walter Pauk, Cornell University Read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Don’t take notes = </a:t>
            </a:r>
            <a:r>
              <a:rPr b="0" lang="en-US" sz="2000" spc="-1" strike="noStrike">
                <a:solidFill>
                  <a:srgbClr val="dc1304"/>
                </a:solidFill>
                <a:latin typeface="Textile"/>
              </a:rPr>
              <a:t>Forget 60 % in 14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Take some notes = </a:t>
            </a:r>
            <a:r>
              <a:rPr b="0" lang="en-US" sz="2000" spc="-1" strike="noStrike">
                <a:solidFill>
                  <a:srgbClr val="dc1304"/>
                </a:solidFill>
                <a:latin typeface="Textile"/>
              </a:rPr>
              <a:t>Remember 6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Take organized notes and do something with them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    </a:t>
            </a:r>
            <a:r>
              <a:rPr b="0" lang="en-US" sz="2000" spc="-1" strike="noStrike">
                <a:solidFill>
                  <a:srgbClr val="dc1304"/>
                </a:solidFill>
                <a:latin typeface="Textile"/>
              </a:rPr>
              <a:t>Remember 90-100% indefinite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e0908"/>
                </a:solidFill>
                <a:uFillTx/>
                <a:latin typeface="Textile"/>
                <a:hlinkClick r:id="rId1"/>
              </a:rPr>
              <a:t>What ar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e0908"/>
                </a:solidFill>
                <a:uFillTx/>
                <a:latin typeface="Textile"/>
                <a:hlinkClick r:id="rId2"/>
              </a:rPr>
              <a:t>steps to t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e0908"/>
                </a:solidFill>
                <a:uFillTx/>
                <a:latin typeface="Textile"/>
                <a:hlinkClick r:id="rId3"/>
              </a:rPr>
              <a:t>Cornell N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0760" y="1600200"/>
            <a:ext cx="4647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et up your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xtile"/>
              </a:rPr>
              <a:t>Draw your mar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xtile"/>
              </a:rPr>
              <a:t>Label clearly</a:t>
            </a: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ak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xtile"/>
              </a:rPr>
              <a:t>Use your best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ctively listen, analyze, ask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eview, revise, ref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xtile"/>
              </a:rPr>
              <a:t>Look over notes and highlight, edit, or add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xtile"/>
              </a:rPr>
              <a:t>Write your questions and ref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at are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ays to 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or score Corn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n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16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At first, take notes together, then ask students to write questions and reflections for homework; score only the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Do a group scoring of several pages of Cornell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Use a numeric rubric to give formative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Have students score one another--match advanced notetakers to less st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y will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students 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n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16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Students will only do what you model consistently for them--each time you write something down, make sure to draw your margin and create a notes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Students will take notes because they are worth something in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Students will take notes because they are able to use them on ex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Students will act according to ha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Dr. Pauk created the Cornell Notetaking System, which is used at Stanford, UCLA’s School of Engineering, most Law Schools, and of course, at Cornell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The Cornell System requires the student to review notes and think critically after learning has taken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1828800"/>
            <a:ext cx="3505320" cy="4038480"/>
          </a:xfrm>
          <a:prstGeom prst="foldedCorner">
            <a:avLst>
              <a:gd name="adj" fmla="val 125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52578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200400"/>
            <a:ext cx="1295640" cy="307080"/>
          </a:xfrm>
          <a:prstGeom prst="borderCallout1">
            <a:avLst>
              <a:gd name="adj1" fmla="val 18750"/>
              <a:gd name="adj2" fmla="val -8333"/>
              <a:gd name="adj3" fmla="val 119671"/>
              <a:gd name="adj4" fmla="val -2119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xtile"/>
              </a:rPr>
              <a:t>Ques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72320" y="1916280"/>
            <a:ext cx="1014480" cy="307080"/>
          </a:xfrm>
          <a:prstGeom prst="borderCallout1">
            <a:avLst>
              <a:gd name="adj1" fmla="val 18750"/>
              <a:gd name="adj2" fmla="val -8333"/>
              <a:gd name="adj3" fmla="val 3277"/>
              <a:gd name="adj4" fmla="val -414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xtile"/>
              </a:rPr>
              <a:t>Labe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46960" y="3992400"/>
            <a:ext cx="914400" cy="337320"/>
          </a:xfrm>
          <a:prstGeom prst="borderCallout1">
            <a:avLst>
              <a:gd name="adj1" fmla="val 18750"/>
              <a:gd name="adj2" fmla="val -8333"/>
              <a:gd name="adj3" fmla="val -25050"/>
              <a:gd name="adj4" fmla="val -93898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xtile"/>
              </a:rPr>
              <a:t>N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5410080"/>
            <a:ext cx="1387440" cy="307080"/>
          </a:xfrm>
          <a:prstGeom prst="borderCallout1">
            <a:avLst>
              <a:gd name="adj1" fmla="val 18750"/>
              <a:gd name="adj2" fmla="val -8333"/>
              <a:gd name="adj3" fmla="val 67212"/>
              <a:gd name="adj4" fmla="val -4230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xtile"/>
              </a:rPr>
              <a:t>Ref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en shoul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take n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52352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21304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extile"/>
              </a:rPr>
              <a:t>Notes are a record of your learning, so take them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You listen to a l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You read a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You watch a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You work in a group on an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221304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You need to recall information about what happened to you in a class, meeting, or activity--which means alway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extile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e0908"/>
                </a:solidFill>
                <a:uFillTx/>
                <a:latin typeface="Textile"/>
                <a:hlinkClick r:id="rId1"/>
              </a:rPr>
              <a:t>What do you notice that is different about Cornell N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28840" y="1771200"/>
            <a:ext cx="38098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21304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extile"/>
              </a:rPr>
              <a:t>They are divided into two parts: questions and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e0802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802"/>
                </a:solidFill>
                <a:latin typeface="Textile"/>
              </a:rPr>
              <a:t>There is a reflection at 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e0802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802"/>
                </a:solidFill>
                <a:latin typeface="Textile"/>
              </a:rPr>
              <a:t>There is room for a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21304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extile"/>
              </a:rPr>
              <a:t>They are labeled with name, date, class, period or oth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at typ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questions shou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I place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left si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1640" y="1771200"/>
            <a:ext cx="42670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Questions which are answered in the notes on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Questions you still need the answer to--ask a friend or the teacher aft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Questions the teacher might ask on a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e0908"/>
                </a:solidFill>
                <a:uFillTx/>
                <a:latin typeface="Textile"/>
                <a:hlinkClick r:id="rId1"/>
              </a:rPr>
              <a:t>Higher level thinking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at else cou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I place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left si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1640" y="1771200"/>
            <a:ext cx="42670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Key terms, vocabulary words, or 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Diagrams o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Reference pages in a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Steps in a solu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Notes to myself about actions I need to 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at are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good tip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tak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notes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r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1640" y="1771200"/>
            <a:ext cx="42670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Write only what is most importan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listen for repetition, change in pace or volume, numbering, explicit clues (“this is important,” or “on the test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watch for gestures, or clues to organizatio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look for material being written</a:t>
            </a: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down by instructor or shared in a visual m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at are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good tip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tak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notes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r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1640" y="1771200"/>
            <a:ext cx="42670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Write in your own words (paraphr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Write using abbreviations (check a dictionary for these and create your 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Draw a figure or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Leave space where you think you might need to “fill in” info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Use bullets, arrows, and indenting to list key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Write legi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extil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What are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good tip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tak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notes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r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1640" y="1771200"/>
            <a:ext cx="42670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Actively l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Use </a:t>
            </a:r>
            <a:r>
              <a:rPr b="0" lang="en-US" sz="2000" spc="-1" strike="noStrike" u="sng">
                <a:solidFill>
                  <a:srgbClr val="0e0908"/>
                </a:solidFill>
                <a:uFillTx/>
                <a:latin typeface="Textile"/>
                <a:hlinkClick r:id="rId1"/>
              </a:rPr>
              <a:t>S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Maintain eye contact with the speaker, group, or presentation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Nod your head at appropriate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Frown when you do not under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Ask relevant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Answer questions posed by the i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Make a written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8:19:33Z</dcterms:created>
  <dc:creator>Office of Superintendent</dc:creator>
  <dc:description/>
  <dc:language>en-US</dc:language>
  <cp:lastModifiedBy>AVID</cp:lastModifiedBy>
  <dcterms:modified xsi:type="dcterms:W3CDTF">2003-09-29T02:29:15Z</dcterms:modified>
  <cp:revision>15</cp:revision>
  <dc:subject/>
  <dc:title>Cornell Notetaking</dc:title>
</cp:coreProperties>
</file>